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74B-41C6-487D-8D36-EC9FCF29B08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B84-B0C5-4CE7-8E64-3DFB4D9D4DC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E856-E79C-4B32-B1B8-28950590A4D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C16-D92A-4BEC-A54D-967840A24B7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8CE-EDD8-4EBE-9FDA-A3F5DA72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320-F219-4787-90AD-0BED8FE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532-C12D-4396-B95B-BF84F298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F0E-9D25-443C-AD16-5F659C4A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BE3-8B87-4B64-8E2D-16D7BED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C48-8098-4C20-AF6B-1C15D8B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6F9-E785-4E28-9E04-94436FC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3CC-8783-47A9-AED9-49C1D122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6A2-696C-45AD-8B99-EB64BA3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4BD-0936-4FF8-A690-789F661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888-D8EB-483B-84AA-278B40E4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0A2-ACB8-4E39-8E9D-252A88B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851-1744-4AA5-B582-A5B2566EB95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olensblogs.com/psychcompanion/digres/#Memor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ulti-Store Model of Memory (MSM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tes 2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___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676520" y="990720"/>
          <a:ext cx="6370560" cy="4627440"/>
        </p:xfrm>
        <a:graphic>
          <a:graphicData uri="http://schemas.openxmlformats.org/drawingml/2006/table">
            <a:tbl>
              <a:tblPr/>
              <a:tblGrid>
                <a:gridCol w="1592280"/>
                <a:gridCol w="1593720"/>
                <a:gridCol w="1592280"/>
                <a:gridCol w="15922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260280"/>
            <a:ext cx="8637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Baskerville Old Face"/>
              </a:rPr>
              <a:t>How many letters can you recall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This was based on an experiment by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Sperling (1960):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Presented a grid of letters for less than a second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People recalled on average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4 letter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Although, when Sperling used “partial report” technique…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showed that iconic memory held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up to 10 items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But decays before we can report them all </a:t>
            </a:r>
            <a:r>
              <a:rPr b="1" lang="en-GB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Duration: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fo decays within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about 2 secs (or less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Short Term 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76000" y="4005000"/>
            <a:ext cx="5762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8064a2"/>
                </a:solidFill>
                <a:latin typeface="Baskerville Old Face"/>
              </a:rPr>
              <a:t>Encoding &amp; Capac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6">
            <a:hlinkClick r:id="" action="ppaction://hlinkshowjump?jump=nextslide"/>
          </p:cNvPr>
          <p:cNvSpPr/>
          <p:nvPr/>
        </p:nvSpPr>
        <p:spPr>
          <a:xfrm>
            <a:off x="822960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114960" y="611496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ck Here to Continu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6"/>
          <p:cNvCxnSpPr/>
          <p:nvPr/>
        </p:nvCxnSpPr>
        <p:spPr>
          <a:xfrm flipV="1">
            <a:off x="3995280" y="1915560"/>
            <a:ext cx="505800" cy="208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Activity 1: Capacity of ST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484280"/>
            <a:ext cx="87854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You will need a pen/pencil and a piece of scrap pap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When you go to the next page, you will be presented with a sequence of numbers, which will appear in the center of the screen at one second interv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Try to memorize the numbers 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 sequence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as they are presented, but </a:t>
            </a:r>
            <a:r>
              <a:rPr b="1" lang="en-GB" sz="3000" spc="-1" strike="noStrike" u="sng">
                <a:solidFill>
                  <a:srgbClr val="fd032d"/>
                </a:solidFill>
                <a:uFillTx/>
                <a:latin typeface="Garamond"/>
              </a:rPr>
              <a:t>DO NOT WRITE ANYTHING DOW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When you see the word </a:t>
            </a:r>
            <a:r>
              <a:rPr b="0" lang="en-GB" sz="3000" spc="-1" strike="noStrike">
                <a:solidFill>
                  <a:srgbClr val="fd032d"/>
                </a:solidFill>
                <a:latin typeface="Garamond"/>
              </a:rPr>
              <a:t>“NOW”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appear, write the numbers down 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 the same order as they were presented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(serial recal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>
            <a:hlinkClick r:id="" action="ppaction://hlinkshowjump?jump=previousslide"/>
          </p:cNvPr>
          <p:cNvSpPr/>
          <p:nvPr/>
        </p:nvSpPr>
        <p:spPr>
          <a:xfrm>
            <a:off x="1295280" y="60325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5"/>
          <p:cNvSpPr/>
          <p:nvPr/>
        </p:nvSpPr>
        <p:spPr>
          <a:xfrm>
            <a:off x="4829040" y="2971800"/>
            <a:ext cx="366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76840" y="2971800"/>
            <a:ext cx="47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788000" y="2971800"/>
            <a:ext cx="45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784760" y="297180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4807080" y="2971800"/>
            <a:ext cx="41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4799160" y="2971800"/>
            <a:ext cx="42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784760" y="297180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800600" y="2971800"/>
            <a:ext cx="42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40006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4822920" y="297180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Baskerville Old Face"/>
              </a:rPr>
              <a:t>How did you do? - see below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371240"/>
            <a:ext cx="87854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Calibri"/>
              </a:rPr>
              <a:t>5 7 4 8 3 1 9 6 2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000000"/>
                </a:solidFill>
                <a:latin typeface="Calibri"/>
              </a:rPr>
              <a:t>Miller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Calibri"/>
              </a:rPr>
              <a:t>(1956)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: the STM can hold </a:t>
            </a:r>
            <a:r>
              <a:rPr b="1" lang="en-GB" sz="3800" spc="-1" strike="noStrike">
                <a:solidFill>
                  <a:srgbClr val="c0504d"/>
                </a:solidFill>
                <a:latin typeface="Calibri"/>
              </a:rPr>
              <a:t>‘the magic number seven, plus or minus two’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On average, the capacity of STM is between 5 and 9 items of information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Activity 2: Extending STM Capac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642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When you go to the next page, you will be presented with a line of letters across the scr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Memorise as many of the letters as you can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but do not write anything until the word </a:t>
            </a:r>
            <a:r>
              <a:rPr b="0" lang="en-GB" sz="3200" spc="-1" strike="noStrike">
                <a:solidFill>
                  <a:srgbClr val="fd032d"/>
                </a:solidFill>
                <a:latin typeface="Garamond"/>
              </a:rPr>
              <a:t>NOW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app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When you see the word </a:t>
            </a:r>
            <a:r>
              <a:rPr b="0" lang="en-GB" sz="3200" spc="-1" strike="noStrike">
                <a:solidFill>
                  <a:srgbClr val="fd032d"/>
                </a:solidFill>
                <a:latin typeface="Garamond"/>
              </a:rPr>
              <a:t>NOW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appear on the screen, write down on your paper as many of the letters as you can remember,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in the same order as they were presented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066680" y="2895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C E B T E C G C S E G N V Q A 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0006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26920" y="2637000"/>
            <a:ext cx="8077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Could you remember more this ti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Now try it again!!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065240" y="2895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CE   BTEC   GCSE   GNVQ   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988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066680" y="2590920"/>
            <a:ext cx="8077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3976560" cy="4106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Baskerville Old Face"/>
              </a:rPr>
              <a:t>What’s a “model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413000"/>
            <a:ext cx="8780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Not a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exact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copy, but a representation of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Helps us understand how something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MCj04242320000[1]"/>
          <p:cNvPicPr/>
          <p:nvPr/>
        </p:nvPicPr>
        <p:blipFill>
          <a:blip r:embed="rId2"/>
          <a:stretch/>
        </p:blipFill>
        <p:spPr>
          <a:xfrm>
            <a:off x="1143000" y="435780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MPj04387460000[1]"/>
          <p:cNvPicPr/>
          <p:nvPr/>
        </p:nvPicPr>
        <p:blipFill>
          <a:blip r:embed="rId3"/>
          <a:stretch/>
        </p:blipFill>
        <p:spPr>
          <a:xfrm>
            <a:off x="6500880" y="257184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probably did better this time - Answers below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ff0000"/>
                </a:solidFill>
                <a:latin typeface="Calibri"/>
              </a:rPr>
              <a:t>GCE  BTEC  GCSE  GNVQ  AS </a:t>
            </a:r>
            <a:br>
              <a:rPr sz="27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y might this be? – (apart from having seen the stimulus material twice, an example of th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actice eff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915920"/>
            <a:ext cx="87361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Miller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1956) found that the capacity of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T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uld be considerably increased by combining/organising separate ‘bits’ of information, e.g. letters or digits, into larger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un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un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nvolves making the info more meaningful, through organising it in line with existing knowledge from your LTM - in this case, of abbreviations for qualif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Short Term 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76000" y="4005000"/>
            <a:ext cx="5762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8064a2"/>
                </a:solidFill>
                <a:latin typeface="Baskerville Old Face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6"/>
          <p:cNvCxnSpPr/>
          <p:nvPr/>
        </p:nvCxnSpPr>
        <p:spPr>
          <a:xfrm flipV="1">
            <a:off x="3995280" y="1915560"/>
            <a:ext cx="505800" cy="208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88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Baskerville Old Face"/>
              </a:rPr>
              <a:t>How long can you retain a new phone number before you have to write it down?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2920" y="1785960"/>
            <a:ext cx="8786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000" spc="-1" strike="noStrike">
                <a:solidFill>
                  <a:srgbClr val="1f497d"/>
                </a:solidFill>
                <a:latin typeface="Garamond"/>
              </a:rPr>
              <a:t>…</a:t>
            </a:r>
            <a:r>
              <a:rPr b="0" i="1" lang="en-GB" sz="3000" spc="-1" strike="noStrike">
                <a:solidFill>
                  <a:srgbClr val="1f497d"/>
                </a:solidFill>
                <a:latin typeface="Baskerville Old Face"/>
              </a:rPr>
              <a:t>if you </a:t>
            </a:r>
            <a:r>
              <a:rPr b="1" i="1" lang="en-GB" sz="3000" spc="-1" strike="noStrike" u="sng">
                <a:solidFill>
                  <a:srgbClr val="1f497d"/>
                </a:solidFill>
                <a:uFillTx/>
                <a:latin typeface="Baskerville Old Face"/>
              </a:rPr>
              <a:t>didn’t</a:t>
            </a:r>
            <a:r>
              <a:rPr b="0" i="1" lang="en-GB" sz="3000" spc="-1" strike="noStrike">
                <a:solidFill>
                  <a:srgbClr val="1f497d"/>
                </a:solidFill>
                <a:latin typeface="Baskerville Old Face"/>
              </a:rPr>
              <a:t> rehears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The duration for which STM can retain info is </a:t>
            </a:r>
            <a:r>
              <a:rPr b="1" lang="en-GB" sz="3000" spc="-1" strike="noStrike">
                <a:solidFill>
                  <a:srgbClr val="fd032d"/>
                </a:solidFill>
                <a:latin typeface="Baskerville Old Face"/>
              </a:rPr>
              <a:t>temporary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 – a very short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Some findings suggest only </a:t>
            </a:r>
            <a:r>
              <a:rPr b="1" lang="en-GB" sz="3000" spc="-1" strike="noStrike">
                <a:solidFill>
                  <a:srgbClr val="fd032d"/>
                </a:solidFill>
                <a:latin typeface="Baskerville Old Face"/>
              </a:rPr>
              <a:t>a few seconds</a:t>
            </a:r>
            <a:r>
              <a:rPr b="0" lang="en-GB" sz="3000" spc="-1" strike="noStrike">
                <a:solidFill>
                  <a:srgbClr val="fd032d"/>
                </a:solidFill>
                <a:latin typeface="Baskerville Old Face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before it fades/decays (unless we </a:t>
            </a:r>
            <a:r>
              <a:rPr b="1" i="1" lang="en-GB" sz="3000" spc="-1" strike="noStrike">
                <a:solidFill>
                  <a:srgbClr val="000000"/>
                </a:solidFill>
                <a:latin typeface="Baskerville Old Face"/>
              </a:rPr>
              <a:t>rehearse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 i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Activity: </a:t>
            </a:r>
            <a:r>
              <a:rPr b="1" lang="en-GB" sz="3200" spc="-1" strike="noStrike">
                <a:solidFill>
                  <a:srgbClr val="000000"/>
                </a:solidFill>
                <a:latin typeface="Baskerville Old Face"/>
              </a:rPr>
              <a:t>duration of 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1499760"/>
            <a:ext cx="8588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This next experiment was first carried out by married couple </a:t>
            </a:r>
            <a:r>
              <a:rPr b="1" lang="en-GB" sz="2700" spc="-1" strike="noStrike">
                <a:solidFill>
                  <a:srgbClr val="000000"/>
                </a:solidFill>
                <a:latin typeface="Baskerville Old Face"/>
              </a:rPr>
              <a:t>Peterson &amp; Peterson (195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Got students to recall combinations of 3 letters 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(</a:t>
            </a:r>
            <a:r>
              <a:rPr b="1" i="1" lang="en-GB" sz="2700" spc="-1" strike="noStrike">
                <a:solidFill>
                  <a:srgbClr val="fd032d"/>
                </a:solidFill>
                <a:latin typeface="Baskerville Old Face"/>
              </a:rPr>
              <a:t>trigrams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),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 after longer and longer interv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During the intervals, students were prevented from rehearsing by a counting task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On the next screen, you will see </a:t>
            </a:r>
            <a:r>
              <a:rPr b="1" lang="en-GB" sz="2700" spc="-1" strike="noStrike">
                <a:solidFill>
                  <a:srgbClr val="fd032d"/>
                </a:solidFill>
                <a:latin typeface="Baskerville Old Face"/>
              </a:rPr>
              <a:t>a trigram 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for a few seco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A 3-digit number will then appear in its place. </a:t>
            </a:r>
            <a:r>
              <a:rPr b="1" lang="en-GB" sz="2700" spc="-1" strike="noStrike">
                <a:solidFill>
                  <a:srgbClr val="fd032d"/>
                </a:solidFill>
                <a:latin typeface="Baskerville Old Face"/>
              </a:rPr>
              <a:t>When this happens, start counting backwards in 3’s 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from the number until you are told to sto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Baskerville Old Face"/>
              </a:rPr>
              <a:t>Pens down….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read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627280" y="2708280"/>
            <a:ext cx="440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   J    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627280" y="263700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0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556000" y="2708280"/>
            <a:ext cx="440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X   G   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56000" y="270828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4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700360" y="2852640"/>
            <a:ext cx="4406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   Z   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700360" y="285264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short-2"/>
          <p:cNvPicPr/>
          <p:nvPr/>
        </p:nvPicPr>
        <p:blipFill>
          <a:blip r:embed="rId1"/>
          <a:stretch/>
        </p:blipFill>
        <p:spPr>
          <a:xfrm>
            <a:off x="1692360" y="1125360"/>
            <a:ext cx="6145200" cy="4829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116000" y="333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d032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d032d"/>
                </a:solidFill>
                <a:latin typeface="Arial"/>
              </a:rPr>
              <a:t>Their findings suggest that our STM fades in under a half a minute if we are not rehearsing 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516720" y="1773360"/>
            <a:ext cx="2305080" cy="1800000"/>
          </a:xfrm>
          <a:prstGeom prst="wedgeRectCallout">
            <a:avLst>
              <a:gd name="adj1" fmla="val -54685"/>
              <a:gd name="adj2" fmla="val 9629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18secs, fewer than 10% recalled correct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179280" y="3068640"/>
            <a:ext cx="2305080" cy="1800360"/>
          </a:xfrm>
          <a:prstGeom prst="wedgeRectCallout">
            <a:avLst>
              <a:gd name="adj1" fmla="val 107921"/>
              <a:gd name="adj2" fmla="val -838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only 3secs, 80% recalled correct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03640" y="5084640"/>
            <a:ext cx="3313080" cy="158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call got progress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orse as the de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rew longer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Baskerville Old Face"/>
              </a:rPr>
              <a:t>Long-term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8064a2"/>
                </a:solidFill>
                <a:latin typeface="Baskerville Old Face"/>
              </a:rPr>
              <a:t>Encoding, capacity, dur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2"/>
          <p:cNvCxnSpPr/>
          <p:nvPr/>
        </p:nvCxnSpPr>
        <p:spPr>
          <a:xfrm flipV="1">
            <a:off x="3995280" y="1988640"/>
            <a:ext cx="3241080" cy="2232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200" spc="-1" strike="noStrike">
                <a:solidFill>
                  <a:srgbClr val="000000"/>
                </a:solidFill>
                <a:latin typeface="Calibri"/>
              </a:rPr>
              <a:t>Easy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 u="sng">
                <a:solidFill>
                  <a:srgbClr val="660066"/>
                </a:solidFill>
                <a:uFillTx/>
                <a:latin typeface="Calibri"/>
              </a:rPr>
              <a:t>Capacity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= potentially unlimited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 u="sng">
                <a:solidFill>
                  <a:srgbClr val="660066"/>
                </a:solidFill>
                <a:uFillTx/>
                <a:latin typeface="Calibri"/>
              </a:rPr>
              <a:t>Duration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= anything up to a lifetime. (minutes to yea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Difficult to test </a:t>
            </a:r>
            <a:r>
              <a:rPr b="0" lang="en-GB" sz="3400" spc="-1" strike="noStrike" u="sng">
                <a:solidFill>
                  <a:srgbClr val="000000"/>
                </a:solidFill>
                <a:uFillTx/>
                <a:latin typeface="Calibri"/>
              </a:rPr>
              <a:t>exact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duration, but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Bahrick </a:t>
            </a:r>
            <a:r>
              <a:rPr b="1" i="1" lang="en-GB" sz="3400" spc="-1" strike="noStrike">
                <a:solidFill>
                  <a:srgbClr val="000000"/>
                </a:solidFill>
                <a:latin typeface="Calibri"/>
              </a:rPr>
              <a:t>et al. </a:t>
            </a: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(1975)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tested US gradu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hown classmate photos years l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d032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90% accuracy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for remembering faces &amp; names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34 yrs after gradu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Declined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after 48yrs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, particularly for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face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 u="sng">
                <a:solidFill>
                  <a:srgbClr val="660066"/>
                </a:solidFill>
                <a:uFillTx/>
                <a:latin typeface="Calibri"/>
              </a:rPr>
              <a:t>Encoding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= It’s meaning-ba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Multi-Store Model (MSM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original”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by Atkinson &amp; Shiffrin (196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not a single memory sto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mory is a linear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684360" y="449280"/>
            <a:ext cx="845964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20640"/>
            <a:ext cx="367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The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Baskerville Old Face"/>
                <a:hlinkClick r:id="rId2"/>
              </a:rPr>
              <a:t>Multi-Store Model </a:t>
            </a: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of Mem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8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Key Features of the M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413000"/>
            <a:ext cx="8491320" cy="446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different type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odel describes these as “memory stor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M (sensory memory), STM (short-term memory), &amp; LTM (long-term mem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y stimulus you come across has been in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one or more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these stores –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in this sequ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ach store retains a different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mount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info, in a different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way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, and for a different length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132000" y="5445000"/>
            <a:ext cx="2016360" cy="1197000"/>
          </a:xfrm>
          <a:prstGeom prst="wedgeRectCallout">
            <a:avLst>
              <a:gd name="adj1" fmla="val -129370"/>
              <a:gd name="adj2" fmla="val -25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URATION”: how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this store can retain info 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804000" y="5516640"/>
            <a:ext cx="2016000" cy="1197000"/>
          </a:xfrm>
          <a:prstGeom prst="wedgeRectCallout">
            <a:avLst>
              <a:gd name="adj1" fmla="val -213041"/>
              <a:gd name="adj2" fmla="val -793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CODING”: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in which the memory is retain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307280" y="357120"/>
            <a:ext cx="1836720" cy="1197000"/>
          </a:xfrm>
          <a:prstGeom prst="wedgeRectCallout">
            <a:avLst>
              <a:gd name="adj1" fmla="val -80305"/>
              <a:gd name="adj2" fmla="val 3052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PACITY”: how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info this store can reta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620640"/>
            <a:ext cx="8569080" cy="5832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If we remember something depends on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Our </a:t>
            </a:r>
            <a:r>
              <a:rPr b="1" lang="en-GB" sz="3500" spc="-1" strike="noStrike" u="sng">
                <a:solidFill>
                  <a:srgbClr val="fd032d"/>
                </a:solidFill>
                <a:uFillTx/>
                <a:latin typeface="Garamond"/>
              </a:rPr>
              <a:t>attention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 to i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This gets it from the SM to the S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If we </a:t>
            </a:r>
            <a:r>
              <a:rPr b="1" lang="en-GB" sz="3500" spc="-1" strike="noStrike" u="sng">
                <a:solidFill>
                  <a:srgbClr val="fd032d"/>
                </a:solidFill>
                <a:uFillTx/>
                <a:latin typeface="Garamond"/>
              </a:rPr>
              <a:t>rehearse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 i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500" spc="-1" strike="noStrike">
                <a:solidFill>
                  <a:srgbClr val="ffff00"/>
                </a:solidFill>
                <a:latin typeface="Garamond"/>
              </a:rPr>
              <a:t>Maintenance rehearsal 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keeps it in our S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500" spc="-1" strike="noStrike">
                <a:solidFill>
                  <a:srgbClr val="ffff00"/>
                </a:solidFill>
                <a:latin typeface="Garamond"/>
              </a:rPr>
              <a:t>Elaborative rehearsal</a:t>
            </a:r>
            <a:r>
              <a:rPr b="1" lang="en-GB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can get it to our L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Baskerville Old Face"/>
              </a:rPr>
              <a:t>Sensory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8064a2"/>
                </a:solidFill>
                <a:latin typeface="Baskerville Old Face"/>
              </a:rPr>
              <a:t>Encod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2"/>
          <p:cNvCxnSpPr/>
          <p:nvPr/>
        </p:nvCxnSpPr>
        <p:spPr>
          <a:xfrm flipH="1" flipV="1">
            <a:off x="2842920" y="1988640"/>
            <a:ext cx="1152720" cy="2232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enses1"/>
          <p:cNvPicPr/>
          <p:nvPr/>
        </p:nvPicPr>
        <p:blipFill>
          <a:blip r:embed="rId1"/>
          <a:stretch/>
        </p:blipFill>
        <p:spPr>
          <a:xfrm>
            <a:off x="2700360" y="1628640"/>
            <a:ext cx="424332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79280" y="333360"/>
            <a:ext cx="870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Garamond"/>
              </a:rPr>
              <a:t>Sensory Memory (SM) takes info from one of the </a:t>
            </a:r>
            <a:r>
              <a:rPr b="1" lang="en-GB" sz="3500" spc="-1" strike="noStrike">
                <a:solidFill>
                  <a:srgbClr val="fd032d"/>
                </a:solidFill>
                <a:latin typeface="Garamond"/>
              </a:rPr>
              <a:t>sense organs</a:t>
            </a:r>
            <a:r>
              <a:rPr b="1" lang="en-GB" sz="3500" spc="-1" strike="noStrike">
                <a:solidFill>
                  <a:srgbClr val="000000"/>
                </a:solidFill>
                <a:latin typeface="Garamond"/>
              </a:rPr>
              <a:t> and holds it in that same for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24000" y="2276640"/>
            <a:ext cx="2197080" cy="1873080"/>
          </a:xfrm>
          <a:prstGeom prst="wedgeRectCallout">
            <a:avLst>
              <a:gd name="adj1" fmla="val 100648"/>
              <a:gd name="adj2" fmla="val -590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ICONIC MEMORY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”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sual info from the eyes –things you SEE. Stored as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7093080" y="1557360"/>
            <a:ext cx="1836720" cy="2016000"/>
          </a:xfrm>
          <a:prstGeom prst="wedgeRectCallout">
            <a:avLst>
              <a:gd name="adj1" fmla="val -109032"/>
              <a:gd name="adj2" fmla="val -14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ECHOIC MEMORY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”: auditory input from the ears – things you HEAR. Stored as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457200"/>
            <a:ext cx="8766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Sensory Memory: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200" spc="-1" strike="noStrike">
                <a:solidFill>
                  <a:srgbClr val="8064a2"/>
                </a:solidFill>
                <a:latin typeface="Baskerville Old Face"/>
                <a:ea typeface="Baskerville Old Face"/>
              </a:rPr>
              <a:t>Capacity &amp; Duration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981080"/>
            <a:ext cx="862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The next slide demonstrates your iconic (visual) sensory memory at work!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Keep your eyes fixed on the slide and concentrate!!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9:46:00Z</dcterms:created>
  <dc:creator>Vic Cobbold and Harry Cobbold</dc:creator>
  <dc:description>Content: Vic Cobbold
Design: Vic Cobbold and Harry Cobbold
Technical Features: Harry Cobbold</dc:description>
  <cp:keywords>Short Term Memory</cp:keywords>
  <dc:language>en-US</dc:language>
  <cp:lastModifiedBy>Elaina Barroso</cp:lastModifiedBy>
  <cp:lastPrinted>2017-10-20T15:48:07Z</cp:lastPrinted>
  <dcterms:modified xsi:type="dcterms:W3CDTF">2017-10-23T19:35:38Z</dcterms:modified>
  <cp:revision>110</cp:revision>
  <dc:subject>Capacity, Chunking and Coding</dc:subject>
  <dc:title>Short Term Memory</dc:title>
</cp:coreProperties>
</file>